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B14D-143A-4B1B-9913-DE1D2B069C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5464-968D-473F-A436-715D9BE66A2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ing is a family affair, if parent’s are not interested in their child’s school, the child will also not be interested in their personal achiev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to your child builds parent child bonds and improves the child’s vocabulary thus closing the achievement gap between the different socioeconomic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6163-1735-4707-90FF-5BAAD80752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whelmingly, all the research indicate that parent involvement has a positive impact on student achiev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0533-4B33-4F1A-A242-13971D472E9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ent’s interest in their child’s work at home or at school allows the child to establish a value on his/her edu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D1D3-A10F-4C66-A15D-0A1904F4CB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3565-4ACA-422C-B001-3B6B69E3F6A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3365-9955-42D8-BF7F-D79F3481A8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s do not involve parents in the decision making and are content with their participation in PTA and school curriculum meet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E2D3-D417-4077-A242-4137D974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F65B-B2A4-4145-9E5B-45B2BF32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012-8A94-4E9B-A4E6-56A8B57A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5C1C-04EA-44B8-9381-07BC226E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CAE7-C25A-4D07-8E31-7C299426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71EC-866C-46AA-BB96-F67D6383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4DC1-307B-4A00-9EA4-76B62E02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58F8-D26D-4BB4-892E-88FC6619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F772-7CF9-4E78-9337-16241E0B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37B4-5E52-4661-9BC6-9AA9C0A0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B00F-A883-4147-864C-1A79403B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803-CCE4-41B4-A13E-61A4BDAE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36CD-4F65-4AB1-B276-51AB233E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B234-47C2-470C-BE15-C8448396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6F27-CEA3-4678-A7AA-924FBC9B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1FE6-41A0-4ADD-AABD-2644F69E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B53E-E4CB-4D14-B8EB-FC2BF5E3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113E-8BD2-414B-B671-E2D97BFE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70D-C892-4268-8924-E7B7D33E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C2A4-1343-4C94-81EA-17CAD9DC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7641-DCCA-4C9C-A090-432D6A1A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7FE-0BC8-4D8A-BDF1-4FF3F7B4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AA89-E080-4405-A656-EB93B4A1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C8B-5317-4174-9F8C-AF918380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B5F2-93E3-4595-A312-3AA0434ED78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DAF8-6FC7-49EC-9C67-8D7BE9A137E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tc.usf.edu/clipart/16100/16161/reading_16161_lg.gif&amp;imgrefurl=http://etc.usf.edu/clipart/16100/16161/reading_16161.htm&amp;h=594&amp;w=700&amp;sz=81&amp;tbnid=VpS0emKVTinPUM:&amp;tbnh=119&amp;tbnw=140&amp;prev=/images%3Fq%3Dchildren%2Breading%2Bclipart&amp;hl=en&amp;usg=__yIFj9d4WH4dacJOOxRtp3i9lk5s=&amp;ei=yuHLSvPXGIallAep6KHaBQ&amp;sa=X&amp;oi=image_result&amp;resnum=3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tc.usf.edu/clipart/16100/16161/reading_16161_lg.gif&amp;imgrefurl=http://etc.usf.edu/clipart/16100/16161/reading_16161.htm&amp;h=594&amp;w=700&amp;sz=81&amp;tbnid=VpS0emKVTinPUM:&amp;tbnh=119&amp;tbnw=140&amp;prev=/images%3Fq%3Dchildren%2Breading%2Bclipart&amp;hl=en&amp;usg=__yIFj9d4WH4dacJOOxRtp3i9lk5s=&amp;ei=yuHLSvPXGIallAep6KHaBQ&amp;sa=X&amp;oi=image_result&amp;resnum=3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tc.usf.edu/clipart/16100/16161/reading_16161_lg.gif&amp;imgrefurl=http://etc.usf.edu/clipart/16100/16161/reading_16161.htm&amp;h=594&amp;w=700&amp;sz=81&amp;tbnid=VpS0emKVTinPUM:&amp;tbnh=119&amp;tbnw=140&amp;prev=/images%3Fq%3Dchildren%2Breading%2Bclipart&amp;hl=en&amp;usg=__yIFj9d4WH4dacJOOxRtp3i9lk5s=&amp;ei=yuHLSvPXGIallAep6KHaBQ&amp;sa=X&amp;oi=image_result&amp;resnum=3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tc.usf.edu/clipart/16100/16161/reading_16161_lg.gif&amp;imgrefurl=http://etc.usf.edu/clipart/16100/16161/reading_16161.htm&amp;h=594&amp;w=700&amp;sz=81&amp;tbnid=VpS0emKVTinPUM:&amp;tbnh=119&amp;tbnw=140&amp;prev=/images%3Fq%3Dchildren%2Breading%2Bclipart&amp;hl=en&amp;usg=__yIFj9d4WH4dacJOOxRtp3i9lk5s=&amp;ei=yuHLSvPXGIallAep6KHaBQ&amp;sa=X&amp;oi=image_result&amp;resnum=3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tc.usf.edu/clipart/16100/16161/reading_16161_lg.gif&amp;imgrefurl=http://etc.usf.edu/clipart/16100/16161/reading_16161.htm&amp;h=594&amp;w=700&amp;sz=81&amp;tbnid=VpS0emKVTinPUM:&amp;tbnh=119&amp;tbnw=140&amp;prev=/images%3Fq%3Dchildren%2Breading%2Bclipart&amp;hl=en&amp;usg=__yIFj9d4WH4dacJOOxRtp3i9lk5s=&amp;ei=yuHLSvPXGIallAep6KHaBQ&amp;sa=X&amp;oi=image_result&amp;resnum=3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Parent Involvement and Academic Achievemen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usan Campbell &amp; Sharon Glasgo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EDU 702.2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Fall 200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9" descr="http://etc.usf.edu/clipart/16100/16161/reading_16161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7600" cy="8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4642"/>
                </a:solidFill>
                <a:latin typeface="Comic Sans MS"/>
              </a:rPr>
              <a:t>Hypothe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HR-1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ough increased paren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ticipation in their child’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ucation, grades will improv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HR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n two 6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grade classes of 25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students at PS-Y we will attempt to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rove that by reading to children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ree times a week their grades will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mprove.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5" descr="http://etc.usf.edu/clipart/16100/16161/reading_16161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7600" cy="895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Comic Sans MS"/>
              </a:rPr>
              <a:t>Reading Changes L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7" descr="http://etc.usf.edu/clipart/16100/16161/reading_16161.htm"/>
          <p:cNvPicPr/>
          <p:nvPr/>
        </p:nvPicPr>
        <p:blipFill>
          <a:blip r:embed="rId1"/>
          <a:stretch/>
        </p:blipFill>
        <p:spPr>
          <a:xfrm>
            <a:off x="155520" y="46080"/>
            <a:ext cx="1047960" cy="895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Butterfly And Flowers Clipart"/>
          <p:cNvPicPr/>
          <p:nvPr/>
        </p:nvPicPr>
        <p:blipFill>
          <a:blip r:embed="rId2"/>
          <a:stretch/>
        </p:blipFill>
        <p:spPr>
          <a:xfrm>
            <a:off x="3276720" y="2362320"/>
            <a:ext cx="2514600" cy="28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nderson, A. T., &amp; Mapp, K. L. (2002)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A new  wave of evidenc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Austin, TX: National Center for Family and Community Connections with School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trikakou, E. N., Weissberg, R. P., Redding, S., &amp; Walberg, H. J. (Eds.). (2005)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chool-family partnerships: Fostering children’s school succes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New York: Teachers College Pres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nderson, A. T., &amp; Berla, N. (1994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). A new generation of evidence: The family is critical to student achievement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St Louis, MO: Danforth Foundation and Flint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rey, N., Lewis, L., Farris, E., &amp; Westat, I. (1998). Parent Involvement in Children's Education: Efforts by Public Elementary Schools. National Center for Education Statistics Statistical Analysis Report. http://search.ebscohost.c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tatement of the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Review of Litera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tatement of the Hypo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5" descr="http://etc.usf.edu/clipart/16100/16161/reading_16161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7600" cy="895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earch indicates that there are positive academic outcomes stemming from parental involvement with benefits beginning in early childhood throughout adolescence and beyond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enderson &amp; Mapp, 2002; Patrikakou, Weisberg, Redding, &amp; Walberg, 2005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Statement of the Probl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children move up in grades, parent involvement wanes.  This research project will attempt to prove that increasing parent involvement will improve children’s academic achievem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5" descr="http://etc.usf.edu/clipart/16100/16161/reading_16161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7600" cy="895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Review of Litera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a well-established fact that parental involvement is linked to children’s success at school. When parents are involved in their children’s education at home, they do better in sch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enderson and Berla, 199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5" descr="http://etc.usf.edu/clipart/16100/16161/reading_16161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7600" cy="895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Review of Literature (continued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 involvement is a valuable component of any student’s educ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level of parent–school involvement is a better predictor of grades than are standardized test scor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esimone, 1999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Review of Literature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12 years of 180 six-hour days spent in school add up to only 13 % of a student’s waking, learning time during the first 18 years of life. The rest, 87% is spent out of school, primarily at home. (Walberg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4889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Pros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pstein’s Framework of SixTypes of Involvement:  parenting, communicating, volunteering, learning at home, decision making and collaborating with communi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4508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ntional avenues for involving parents in school can be closed to parents due to specific cultural knowledg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0:00:42Z</dcterms:created>
  <dc:creator>1b-9</dc:creator>
  <dc:description/>
  <dc:language>en-US</dc:language>
  <cp:lastModifiedBy>Authorized User</cp:lastModifiedBy>
  <dcterms:modified xsi:type="dcterms:W3CDTF">2009-10-22T22:55:28Z</dcterms:modified>
  <cp:revision>29</cp:revision>
  <dc:subject/>
  <dc:title>Slide 1</dc:title>
</cp:coreProperties>
</file>